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670800" cy="9925200"/>
          </a:xfrm>
          <a:custGeom>
            <a:avLst/>
            <a:gdLst>
              <a:gd name="textAreaLeft" fmla="*/ 360 w 6670800"/>
              <a:gd name="textAreaRight" fmla="*/ 6670440 w 66708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37">
                <a:moveTo>
                  <a:pt x="5" y="0"/>
                </a:moveTo>
                <a:arcTo wR="5" hR="5" stAng="16200000" swAng="-5400000"/>
                <a:lnTo>
                  <a:pt x="0" y="32132"/>
                </a:lnTo>
                <a:arcTo wR="5" hR="5" stAng="10800000" swAng="-5400000"/>
                <a:lnTo>
                  <a:pt x="21595" y="3213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840" y="4714920"/>
            <a:ext cx="48895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5"/>
          </p:nvPr>
        </p:nvSpPr>
        <p:spPr>
          <a:xfrm>
            <a:off x="37796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BF40C-D01E-4D13-938C-904F930F8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888840" y="4714920"/>
            <a:ext cx="48913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are more concentrated in high-income countries, where 184 remunicipalisations took place in the last 15 years, compared to 51 cases in middle- and low-income countries. Two countries, France with 94 cases and the US with 58 cases, account for the great majority of cases in high-income countries. Cases in high-income countries show a marked acceleration: 104 remunicipalisations took place in the five years between 2010 and early 2015, while 55 occurred between 2005 and 2009. The number of remunicipalisation cases has nearly doubled after 20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9AADFF-F53D-4E5C-9B25-4DA9607EBD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888840" y="4714920"/>
            <a:ext cx="48913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the example of Paris which signalled an even stronger acceleration in France, where the number of remunicipalisation cases trebled in the same period: 63 remunicipalisations have been completed in the five years between 2010 (when Paris remunicipalised) and early 2015, whereas 19 remunicipalisations occurred in the 10 years between 2000 and 2009. In middle- and low-income countries, the extent and acceleration of remunicipalisation are less pronounced. However, the list of high profile cases in uppermiddle, lower-middle and low-income countries is impressive and includes: Accra (Ghana); Almaty (Kazakhstan); Antalya (Turkey); Bamako (Mali); Bogota (Colombia); Budapest (Hungary); Buenos Aires (Argentina); Conakry (Guinea); Dar es Salaam (Tanzania); Jakarta (Indonesia); Johannesburg (South Africa); Kampala (Uganda); Kuala Lumpur (Malaysia); La Paz (Bolivia); Maputo (Mozambique); and Rabat (Morocco). Also, the population affected by remunicipalisation in middle- and low-income countries is far greater than in high-income countries: over 81 million people, compared to nearly 25 million people. The surge in water remunicipalisation is glob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ter remunicipalisation trend that only 15 years ago was inexistent has since accelerated dramatically and keeps gaining streng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CEA936-8350-412A-9BBD-3D3689C1ED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90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92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94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68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70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72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74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76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888840" y="4714920"/>
            <a:ext cx="48913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apositiva modello per i contenu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plicarla per inserire nuovi contenut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l piè di pagina indicare il titolo dell’evento “Labmeeting NNN, etc…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80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80920" y="782640"/>
            <a:ext cx="4908600" cy="3683160"/>
          </a:xfrm>
          <a:prstGeom prst="rect">
            <a:avLst/>
          </a:prstGeom>
          <a:ln w="0">
            <a:noFill/>
          </a:ln>
        </p:spPr>
      </p:sp>
      <p:sp>
        <p:nvSpPr>
          <p:cNvPr id="182" name=""/>
          <p:cNvSpPr/>
          <p:nvPr/>
        </p:nvSpPr>
        <p:spPr>
          <a:xfrm>
            <a:off x="887400" y="4699080"/>
            <a:ext cx="48942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C8EA-6044-4F13-BF48-67CE389E6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16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11400"/>
            <a:ext cx="82216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C7F0-0480-4ADA-B301-003DE6582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60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F4C0-AC68-4A2C-BD51-A79B65634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0800" y="144756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360" y="144756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1140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0800" y="391140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360" y="391140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1A4C-F5F9-4BBF-91AE-B6BDABEF8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CA35-EB2F-4012-9F02-835026B5B3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1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4F05-0077-4B01-B3DD-534811BD32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168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9066-C700-49FF-8637-0CCB38E18F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8884-B462-4534-8A28-75A73D0FEE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27800-65DC-4DCF-8B84-42A4E96FC1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7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C88E-94C1-4D49-93B0-FF6D372241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B1B8-C5CE-42B9-A269-83FA81E1D9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1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36FB-CF61-4C84-A291-9225F278B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60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27B4-36EA-4B11-9247-A954A2EDDB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82216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0B6B0-3ECD-466F-AB70-482AFD81B3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16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1400"/>
            <a:ext cx="82216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ACDB-A94A-4780-9316-FA44847564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60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3E87-DFAD-40BB-9190-2B84077275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44756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0360" y="144756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140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391140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0360" y="391140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8038-06AD-4D6D-B7B0-A55EF7D4C6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DFA5C-C302-452D-AF3A-37A2BD091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1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0CAAD-E1C3-41D1-B076-E9D20E77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168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77C2F-9ADB-4AFB-A212-0C77A87A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4F17A-EA93-4948-9460-9A85D55A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E0A44-FA18-4B8F-8842-B280F1103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168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FAD0-6905-4CCC-B352-0012986DAB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7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04F24-92B4-4569-BC4F-AB3DD273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EB69B-9A69-45E3-B6B4-D7612E58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9360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BC33C-0ED2-463B-BA2A-C370F04C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82216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12D4F-17D6-4245-8118-805916E1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16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880" y="3911400"/>
            <a:ext cx="82216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6E2EE-6A13-407F-A1CD-DC11EF52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9360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4D869-86B6-49B2-B545-0263E5F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60800" y="144756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0360" y="144756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880" y="391140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60800" y="391140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0360" y="3911400"/>
            <a:ext cx="26470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AF041-EF90-47B3-AEA1-EDD383C9D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7D4C-9452-4107-B064-B93B19F57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5602-CEB0-4957-96B3-C14D98201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627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61BC-0D89-41B7-B3E9-84053ABA6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85B5-85C7-401F-85BF-2FF197E3B7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600" y="391140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ABCF-BBBD-4D2C-894E-5A68C2D7F6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600" y="1447560"/>
            <a:ext cx="401184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11400"/>
            <a:ext cx="8221680" cy="22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EF4E1-5F32-4DA2-A94B-B2420AD75F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168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400964-7802-4CD9-9586-314F5F0E57B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5923080"/>
            <a:ext cx="9142560" cy="933480"/>
            <a:chOff x="0" y="5923080"/>
            <a:chExt cx="9142560" cy="9334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rcRect l="0" t="30669" r="0" b="23946"/>
            <a:stretch/>
          </p:blipFill>
          <p:spPr>
            <a:xfrm>
              <a:off x="0" y="5954760"/>
              <a:ext cx="91425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343640" y="5962680"/>
              <a:ext cx="1798920" cy="893880"/>
            </a:xfrm>
            <a:prstGeom prst="rect">
              <a:avLst/>
            </a:prstGeom>
            <a:solidFill>
              <a:srgbClr val="9999ff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rcRect l="0" t="0" r="0" b="15974"/>
            <a:stretch/>
          </p:blipFill>
          <p:spPr>
            <a:xfrm>
              <a:off x="7308720" y="5923080"/>
              <a:ext cx="1833840" cy="88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168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83434-C468-41E6-BC52-D5EB45CC3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437600" y="44280"/>
            <a:ext cx="1742760" cy="90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9514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9514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22168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8000"/>
                </a:solidFill>
                <a:latin typeface="Times New Roman"/>
                <a:ea typeface="DejaVu Sans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8000"/>
                </a:solidFill>
                <a:latin typeface="Times New Roman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8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BE793-13F4-4D72-85B5-0DB412833820}" type="slidenum">
              <a:rPr b="0" lang="it-IT" sz="1400" spc="-1" strike="noStrike">
                <a:solidFill>
                  <a:srgbClr val="008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9454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itto all’Acqua - Diritto al Futuro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rà dell’acqua e dei beni comu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a, 7-8 novembre 2015</a:t>
            </a:r>
            <a:r>
              <a:rPr b="0" lang="en-US" sz="2400" spc="-1" strike="noStrike">
                <a:solidFill>
                  <a:srgbClr val="4945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94540"/>
                </a:solidFill>
                <a:latin typeface="Arial"/>
              </a:rPr>
              <a:t> 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4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l diritto umano all’acqua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ra gestione pubblica e priv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933720"/>
            <a:ext cx="8064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nuele 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.lobina@gre.ac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ervices International Research Unit (PSIR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Faculty, University of Greenwich, U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www.psiru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90440" y="115920"/>
            <a:ext cx="8197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 Narrow"/>
              </a:rPr>
              <a:t>La rimunicipalizzazion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Arial Narrow"/>
              </a:rPr>
              <a:t>un processo globale in forte accele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-51322" b="61026"/>
          <a:stretch/>
        </p:blipFill>
        <p:spPr>
          <a:xfrm>
            <a:off x="0" y="1341360"/>
            <a:ext cx="914400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50920" y="115920"/>
            <a:ext cx="849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Narrow"/>
              </a:rPr>
              <a:t>Diffusione internazionale della rimunicipalizzazione: </a:t>
            </a:r>
            <a:br>
              <a:rPr sz="2800"/>
            </a:br>
            <a:r>
              <a:rPr b="1" lang="en-US" sz="2800" spc="-1" strike="noStrike">
                <a:solidFill>
                  <a:srgbClr val="808080"/>
                </a:solidFill>
                <a:latin typeface="Arial Narrow"/>
              </a:rPr>
              <a:t>2000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16928" t="19186" r="18499" b="9384"/>
          <a:stretch/>
        </p:blipFill>
        <p:spPr>
          <a:xfrm>
            <a:off x="539640" y="979560"/>
            <a:ext cx="7920000" cy="49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onclus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765000"/>
            <a:ext cx="91440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l mercato esclude e discrim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realizzazione del diritto umano all’acqua richiede inclusivitá e centralitá del principio «Acqua Bene Comune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8040" indent="-60804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La gestione pubblica è lo strumento piú adatto a realizzare il diritto umano all’acqua perché, al contrario della gestione privata, non è soggetta alla regola della massimizzazione del profitto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GB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765000"/>
            <a:ext cx="91440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GB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51000" y="44280"/>
            <a:ext cx="414972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Riferimenti bibliograf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92280"/>
            <a:ext cx="914400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675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Kishimoto, S., Lobina, E., Petitjean, O. (2015) “</a:t>
            </a:r>
            <a:r>
              <a:rPr b="1" i="1" lang="en-GB" sz="2700" spc="-1" strike="noStrike">
                <a:solidFill>
                  <a:srgbClr val="000000"/>
                </a:solidFill>
                <a:latin typeface="Arial"/>
              </a:rPr>
              <a:t>Our public water future: The global experience with remunicipalisation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”. </a:t>
            </a:r>
            <a:r>
              <a:rPr b="1" lang="en-GB" sz="2700" spc="-1" strike="noStrike" u="sng">
                <a:solidFill>
                  <a:srgbClr val="3333cc"/>
                </a:solidFill>
                <a:uFillTx/>
                <a:latin typeface="Arial"/>
              </a:rPr>
              <a:t>http://www.psiru.org/reports/our-public-water-future-global-experience-remunicipalisation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75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Lobina, E., Kishimoto, S., Petitjean, O. (2014) “Here to Stay: Water remunicipalisation as a global trend”. </a:t>
            </a:r>
            <a:r>
              <a:rPr b="1" lang="en-GB" sz="2700" spc="-1" strike="noStrike" u="sng">
                <a:solidFill>
                  <a:srgbClr val="3333cc"/>
                </a:solidFill>
                <a:uFillTx/>
                <a:latin typeface="Arial"/>
              </a:rPr>
              <a:t>http://psiru/reports/here-stay-water-remunicipalisation-global-trend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Lobina, E., Hall, D. (2008) “Poor choices: Water”. </a:t>
            </a:r>
            <a:r>
              <a:rPr b="1" lang="en-GB" sz="2700" spc="-1" strike="noStrike" u="sng">
                <a:solidFill>
                  <a:srgbClr val="3333cc"/>
                </a:solidFill>
                <a:uFillTx/>
                <a:latin typeface="Arial"/>
              </a:rPr>
              <a:t>http://www.psiru.org/sites/default/files/2008-09-EW-PoorChoicesWater.pdf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5000"/>
            <a:ext cx="91440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GB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51000" y="44280"/>
            <a:ext cx="4149720" cy="58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Riferimenti bibliograf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92280"/>
            <a:ext cx="914400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675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Kishimoto, S., Lobina, E., Petitjean, O. (2015) “</a:t>
            </a:r>
            <a:r>
              <a:rPr b="1" i="1" lang="en-GB" sz="2700" spc="-1" strike="noStrike">
                <a:solidFill>
                  <a:srgbClr val="000000"/>
                </a:solidFill>
                <a:latin typeface="Arial"/>
              </a:rPr>
              <a:t>Our public water future: The global experience with remunicipalisation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”. </a:t>
            </a:r>
            <a:r>
              <a:rPr b="1" lang="en-GB" sz="2700" spc="-1" strike="noStrike" u="sng">
                <a:solidFill>
                  <a:srgbClr val="3333cc"/>
                </a:solidFill>
                <a:uFillTx/>
                <a:latin typeface="Arial"/>
              </a:rPr>
              <a:t>http://www.psiru.org/reports/our-public-water-future-global-experience-remunicipalisation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675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Lobina, E., Kishimoto, S., Petitjean, O. (2014) “Here to Stay: Water remunicipalisation as a global trend”. </a:t>
            </a:r>
            <a:r>
              <a:rPr b="1" lang="en-GB" sz="2700" spc="-1" strike="noStrike" u="sng">
                <a:solidFill>
                  <a:srgbClr val="3333cc"/>
                </a:solidFill>
                <a:uFillTx/>
                <a:latin typeface="Arial"/>
              </a:rPr>
              <a:t>http://psiru/reports/here-stay-water-remunicipalisation-global-trend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Lobina, E., Hall, D. (2008) “Poor choices: Water”. </a:t>
            </a:r>
            <a:r>
              <a:rPr b="1" lang="en-GB" sz="2700" spc="-1" strike="noStrike" u="sng">
                <a:solidFill>
                  <a:srgbClr val="3333cc"/>
                </a:solidFill>
                <a:uFillTx/>
                <a:latin typeface="Arial"/>
              </a:rPr>
              <a:t>http://www.psiru.org/sites/default/files/2008-09-EW-PoorChoicesWater.pdf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Il diritto umano all’acq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20640"/>
            <a:ext cx="914400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 diritto sancito dalla risoluzione ONU del 28 luglio 2010, la cu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zazione progressiva implica il principio di non-regressi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zazione del diritto umano all’acqua come problema di analisi istituzionale compar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  <a:ea typeface="Droid Sans Fallback"/>
              </a:rPr>
              <a:t>Qual’é il vantaggio comparato della gestione pubblica sulla gestione privata nella realizzazione del diritto umano all’acqua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L’esperienza europ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20640"/>
            <a:ext cx="914400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 Bretagna e Francia sono i Paesi europei che hanno maggiormente privatizzato i servizi idrici, in particolare il servizio d’acquedot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’esperienza di questi Paesi dimostra che, a causa della massimizzazione del profitto, la gestione privata é un ostacolo alla realizzazione del diritto umano all’acqu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cremento di povertà d’acqua e distacchi associato alla gestione privata del servizio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Gestione privata e povertà d’acq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5000"/>
            <a:ext cx="91440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B: Una famiglia è considerata affetta da povertá d’acqua quando spende piú del 3% delle proprie disponibilitá per pagare le bollette del servizio idrico integ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GB: Un fenomeno sconosciuto prima della privatizzazione, ed in continua crescita; 2009/2010: 23,6% delle famiglie in Inghilterra e Galles spendev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iú del 3% delle proprie disponibilitá per pagare le bollette del servizio idrico integrato (l’11,5% spendeva piú del 5%)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GB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95143"/>
                </a:solidFill>
                <a:latin typeface="Arial"/>
              </a:rPr>
              <a:t>Media delle bollette annuali, 1989-2004 </a:t>
            </a:r>
            <a:br>
              <a:rPr sz="2400"/>
            </a:br>
            <a:r>
              <a:rPr b="1" lang="it-IT" sz="2400" spc="-1" strike="noStrike">
                <a:solidFill>
                  <a:srgbClr val="395143"/>
                </a:solidFill>
                <a:latin typeface="Arial"/>
              </a:rPr>
              <a:t>(GBP in termini reali, valori del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447920"/>
            <a:ext cx="82234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855403-7C5F-41E6-9E61-76E0C5BDCC0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9280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Gestione privata e distacco delle uten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5000"/>
            <a:ext cx="91440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GB: 1999, proibizione dei distacchi delle utenze per moros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Francia: 2013, legge Brottes proibisce i distacchi delle utenze per morosità; Consiglio Costituzionale respinge il ricorso della società SAUR contro la leg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10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Arial"/>
              </a:rPr>
              <a:t>Nei due Paesi la proibizione dei distacchi delle utenze per morosità di fatto protegge gli utenti dalla condotta dei gestori privati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GB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Gestione pubblica e diritto all’acq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65000"/>
            <a:ext cx="91440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zioni della storia: l’universalizzazione del servizio di acquedotto nei Paesi OC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  <a:ea typeface="Droid Sans Fallback"/>
              </a:rPr>
              <a:t>Ruolo preponderante dei gestori pubblic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  <a:ea typeface="Droid Sans Fallback"/>
              </a:rPr>
              <a:t>Ruolo preponderante del finanziamento pubbl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  <a:ea typeface="Droid Sans Fallback"/>
              </a:rPr>
              <a:t>Ruolo centrale della politica pubblica (obbligo di allaccio finanziato da tassazion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573633"/>
              </a:buClr>
              <a:buSzPct val="50000"/>
              <a:buFont typeface="Wingdings" charset="2"/>
              <a:buChar char="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stione pubblica nel XXI secolo: rimunicipalizzazione e politica solidale con gli utenti a Parig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GB" sz="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08:06:35Z</dcterms:created>
  <dc:creator>Bruce Cronin</dc:creator>
  <dc:description/>
  <dc:language>en-US</dc:language>
  <cp:lastModifiedBy>Emanuele Lobina</cp:lastModifiedBy>
  <cp:lastPrinted>2014-11-25T21:18:14Z</cp:lastPrinted>
  <dcterms:modified xsi:type="dcterms:W3CDTF">2015-11-06T22:30:50Z</dcterms:modified>
  <cp:revision>649</cp:revision>
  <dc:subject/>
  <dc:title>The Influence of Directorate Interlocks on NZ Overseas Direct Investment</dc:title>
</cp:coreProperties>
</file>